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C8E-8C72-4288-A7E7-27C27774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C22-B29B-49EF-B6FE-DC85CAAB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3DD-E856-44E6-BDDE-3E7D5ADF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C4F-9857-4824-8B38-631ED979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7C55-C985-4F91-99CF-9F10FB9E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CE0B-E45D-4DE9-AF9B-CE393E6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BB82-EFCD-47A3-91C3-D44F417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D96-1044-44B0-B67D-05ADEE94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F1F3-2353-4B6A-8CF0-3433A012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E64-441F-49D4-BBDE-7C00682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89F4-8A3F-4955-AD5D-EE35E94A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317-5B82-4EF6-A2C9-5A8D77F6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032-3446-4BC1-9C7A-E856F45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D8BD-EC4E-4661-8AF2-46A35F0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0E89-CCDC-4475-B1BF-A63858D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3B4-3101-481A-BE07-D70DE8FF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9EB-6FB7-404E-A9AA-401AE31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FF8-4252-4128-883F-10B2DC6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44E-D12B-4A47-A16F-E518521D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687-8D30-4378-8DA5-C0B64E9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ADC-E29E-47D3-BFF8-0ED52BC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351-25A9-413F-99E2-4BBEDCE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853-D5A1-4A9F-BFB9-4F95065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092-B2EC-4F5B-926B-C94C1E0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FE2-558D-492D-BA06-CF04903911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E5CB-D773-4DE4-AB41-9E23210ED9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az 171" descr=""/>
          <p:cNvPicPr/>
          <p:nvPr/>
        </p:nvPicPr>
        <p:blipFill>
          <a:blip r:embed="rId1"/>
          <a:stretch/>
        </p:blipFill>
        <p:spPr>
          <a:xfrm>
            <a:off x="792000" y="1494000"/>
            <a:ext cx="8010720" cy="1992240"/>
          </a:xfrm>
          <a:prstGeom prst="rect">
            <a:avLst/>
          </a:prstGeom>
          <a:ln w="0">
            <a:noFill/>
          </a:ln>
        </p:spPr>
      </p:pic>
      <p:pic>
        <p:nvPicPr>
          <p:cNvPr id="98" name="Obraz 201" descr=""/>
          <p:cNvPicPr/>
          <p:nvPr/>
        </p:nvPicPr>
        <p:blipFill>
          <a:blip r:embed="rId2"/>
          <a:stretch/>
        </p:blipFill>
        <p:spPr>
          <a:xfrm>
            <a:off x="927000" y="3833640"/>
            <a:ext cx="7831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L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" y="4419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lokąt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rzchoł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B, C, D, E, F,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B, BC, CD, DE, EF, FG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ąty wewnętrzn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BC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BCD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DE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DEF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EFG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GA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G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zwa wielokąta zależy od ilości ką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asz wielokąt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dmi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210" descr=""/>
          <p:cNvPicPr/>
          <p:nvPr/>
        </p:nvPicPr>
        <p:blipFill>
          <a:blip r:embed="rId1"/>
          <a:stretch/>
        </p:blipFill>
        <p:spPr>
          <a:xfrm>
            <a:off x="2727360" y="1089000"/>
            <a:ext cx="3554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20720" y="3158640"/>
            <a:ext cx="80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stokąt to czworokąt, który ma wszystkie kąty proste (miara kąta prostego 90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2360" y="363924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ymiary prostokąta to jego długość i szerok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7280" y="4200840"/>
            <a:ext cx="76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ci prostoką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cztery wierzchołk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B| = |CD|; |BC|= |AD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oległ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|| CD; BC ||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a sąsiednie boki prostokąta są prostopadł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BC; BC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CD; </a:t>
            </a:r>
            <a:br>
              <a:rPr sz="1800"/>
            </a:b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  C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D; A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połowią się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O|= |OC|; 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400" y="3472200"/>
            <a:ext cx="832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wód prostokąta jest sumą długości jego boków: AB + BC + CD + AD =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le prostokąta jest iloczynem jego sąsiednich boków: AB · BC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 =  a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WADR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0920" y="174276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ysuj kwadrat i oznacz jego wierzchołki oraz zaznacz przekąt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odpowiedz na pyt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Czy kwadrat jest prostoką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le wierzchołków ma kwadrat, wypisz 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Jakie są długości boków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Co możesz powiedzieć o przekątnych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Jak obliczamy obwód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Jak obliczamy pole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179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132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liczba oznaczająca ile razy daną rzecz pomniejszyliśmy lub powiększy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1854000"/>
            <a:ext cx="32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zeczywiste wym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większają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67000" y="3098880"/>
          <a:ext cx="654516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3098880"/>
                    <a:ext cx="65451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07000" y="50288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kala obrazy pomniejszać chc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ięc dzielenie wykonać mus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Gdy powiększać obraz przyszło j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ykonać mnożenie musi OJEJ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4:40Z</dcterms:modified>
  <cp:revision>83</cp:revision>
  <dc:subject/>
  <dc:title>Slajd 1</dc:title>
</cp:coreProperties>
</file>